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B10A-29F6-4028-90B1-A15C6A09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6F5A-C1E8-4BEE-B665-A3AF84C2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1654-4228-4CB0-95D6-E048243D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C448-6DE9-40A1-844A-43F0DA649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1823-F727-4290-A467-ADB224C1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B84D-1823-4954-9B06-8A6F8AC9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05ED-993A-4DFF-8DD6-E3D58958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F7FB-877D-4C41-9381-944AD8BF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0195-EAF5-4D13-9B98-AAFCB02C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F4A1-36A7-42C4-8272-98A8C1F4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8AAD-9831-45FF-BE60-F476D355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59CA-669F-4C26-8652-89DB0BDA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92C4-8043-4F8C-8388-146AA3F7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B210-AE46-4D9F-A6A5-85DF8D83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8652-7D31-47E3-A44E-8A560A7A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84DD-BDC3-4ABD-8A59-0F5DDADFF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B5D8-F9F6-47E3-BB8A-28C7E28C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75C7-617B-41BD-A3CC-BAD7C636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C8A9-65E2-412D-BC00-E6DBF905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EE64-9722-418C-A973-1BB1B94F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E7D1-470D-4A99-B7FF-EEE1D6B6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DC45-014F-4D70-B395-7733013A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B1E6-82AD-4640-A4AC-D85F278F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7C3B-8812-4D20-A506-79E4B44F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08E2-54B7-4B83-9D0D-0BBB1555C7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9554-5A46-4411-91F8-E42DC470D4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osmos.msu.ru/" TargetMode="External"/><Relationship Id="rId2" Type="http://schemas.openxmlformats.org/officeDocument/2006/relationships/hyperlink" Target="http://www.sseti.org/" TargetMode="External"/><Relationship Id="rId3" Type="http://schemas.openxmlformats.org/officeDocument/2006/relationships/hyperlink" Target="http://microsat.sm.bmstu.ru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msat.org/" TargetMode="External"/><Relationship Id="rId2" Type="http://schemas.openxmlformats.org/officeDocument/2006/relationships/hyperlink" Target="http://www.ariss.org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Радиолюбительские спутники</a:t>
            </a:r>
            <a:r>
              <a:rPr b="1" lang="ru-RU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для науки</a:t>
            </a:r>
            <a:r>
              <a:rPr b="1" lang="ru-RU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и образования</a:t>
            </a: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0520" y="4114800"/>
            <a:ext cx="86108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</a:rPr>
              <a:t>Александр Зайцев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rw3dz@rambler.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24379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ием радиоизлучения Юпитера и Солнца</a:t>
            </a:r>
            <a:br>
              <a:rPr sz="3600"/>
            </a:b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38080" y="3809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ttp://radiojove.gsfc.nasa.g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Radio-Jove1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953040" cy="1295280"/>
          </a:xfrm>
          <a:prstGeom prst="rect">
            <a:avLst/>
          </a:prstGeom>
          <a:ln w="0">
            <a:noFill/>
          </a:ln>
        </p:spPr>
      </p:pic>
      <p:pic>
        <p:nvPicPr>
          <p:cNvPr id="117" name="collage-1" descr=""/>
          <p:cNvPicPr/>
          <p:nvPr/>
        </p:nvPicPr>
        <p:blipFill>
          <a:blip r:embed="rId2"/>
          <a:stretch/>
        </p:blipFill>
        <p:spPr>
          <a:xfrm>
            <a:off x="1066680" y="4952880"/>
            <a:ext cx="7112160" cy="16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Что могут радиолюбители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объединение науки и  образования  на базе использования радиолюбительских  микроспутников – путь освоения высоких технологий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OSCAR-5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SET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e-PO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S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nd another &gt; 20 micro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rom Universi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all-satellites" descr=""/>
          <p:cNvPicPr/>
          <p:nvPr/>
        </p:nvPicPr>
        <p:blipFill>
          <a:blip r:embed="rId1"/>
          <a:stretch/>
        </p:blipFill>
        <p:spPr>
          <a:xfrm>
            <a:off x="4038480" y="2286000"/>
            <a:ext cx="480060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Дорога в будущее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для СРР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ARRL-edu-bigproject" descr=""/>
          <p:cNvPicPr/>
          <p:nvPr/>
        </p:nvPicPr>
        <p:blipFill>
          <a:blip r:embed="rId1"/>
          <a:stretch/>
        </p:blipFill>
        <p:spPr>
          <a:xfrm>
            <a:off x="685800" y="2217600"/>
            <a:ext cx="3200400" cy="3151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495680" y="2057400"/>
            <a:ext cx="419580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ализация программ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смического образов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ля школ и университето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ссии и зарубежных стран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на базе использования и разработки микроспутни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---------------------------------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30.09.2005, ДОМОДЕДОВО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W3DZ  &amp; All Russian H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Новые микроспутники в России</a:t>
            </a:r>
            <a:r>
              <a:rPr b="0" lang="en-US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524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Университетский-Татьяна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”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-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  <a:ea typeface="Arial"/>
                <a:hlinkClick r:id="rId1"/>
              </a:rPr>
              <a:t>http://cosmos.msu.r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запущен 20 января 2005 год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улкан – Компас 2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”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 - ИЗМИРАН, КБ Макеева, НИИЯФ МГУ,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запуск – в конце 2005 год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Можаец-5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”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совместно с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“SSETI-Express”-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ЕКА,  см.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  <a:ea typeface="Arial"/>
                <a:hlinkClick r:id="rId2"/>
              </a:rPr>
              <a:t>http://www.sseti.or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запуск –  октябрь 2005 год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Бауманец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75”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  <a:ea typeface="Arial"/>
                <a:hlinkClick r:id="rId3"/>
              </a:rPr>
              <a:t>http://microsat.sm.bmstu.r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запуск – начало 2006 год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«Чибис»  -  разработка СКБ ИКИ, Таруса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запуск – 2007 год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Почти на всех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этих спутниках стоят радиолюбительские                     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  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етранслятор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ы,  и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готовлнные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в Калуге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групп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ой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.Папкова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UA3XB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                                              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    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.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                               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 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14800" y="533160"/>
            <a:ext cx="5486400" cy="60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Татьяна -МГУ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250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запущен 20 января 2005 года</a:t>
            </a:r>
            <a:br>
              <a:rPr sz="2800"/>
            </a:br>
            <a:br>
              <a:rPr sz="2800"/>
            </a:b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араметры спутника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 общий вес 30 кг,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 полезная нагрузка – 7 кг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 телеметрия 145 Мгц вверх, 435 Мгц      вниз, скорость 9600 б/сек</a:t>
            </a:r>
            <a:br>
              <a:rPr sz="2400"/>
            </a:br>
            <a:br>
              <a:rPr sz="2400"/>
            </a:b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Основные приборы:</a:t>
            </a: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Датчик УФ излучения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- Детекторы электронов и протонов в диапазоне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00 keV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1 MeV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24280" y="838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sputnik-11-2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3108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“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Вулкан – Компас 2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”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90760" y="2133360"/>
            <a:ext cx="47242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иборы под эгидой ИЗМИРАН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1.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НЧ- комплекс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2.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GPS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/ГЛОНАСС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приемни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3.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Маяк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RBE-TX 150 / 400 Mhz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4.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КВ-спектрометр плазменных волн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боры под эгидой НИИЯ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Датчик УФ излучения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6.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Детекторы электронов и протонов в диапазоне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00 keV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1 MeV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KOMPAS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381024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“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Чибис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”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– запуск в 2007 г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190760" y="2133360"/>
            <a:ext cx="47242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9900"/>
                </a:solidFill>
                <a:uFillTx/>
                <a:latin typeface="Times New Roman"/>
                <a:ea typeface="Times New Roman"/>
              </a:rPr>
              <a:t>Основные задачи микроспутника «Чибис»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1.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ниторинг атмосферы, контроль распределения и трендов парниковых газов, регистрирование крупных выбросов вещества в атмосферу, включая вулканическую деятельность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2.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Мониторинг лесных пожаров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3.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Наблюдения за состоянием ионосферы в экстремальных условиях космической погоды и террагенного воздействия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4.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ализация программы космического образования для школ и университетов России и зарубежных стран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 </a:t>
            </a:r>
            <a:r>
              <a:rPr b="1" lang="en-US" sz="1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5.Создание универсальной платформы для фундаментальных, прикладных и образовательных целей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 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Chibis-1" descr=""/>
          <p:cNvPicPr/>
          <p:nvPr/>
        </p:nvPicPr>
        <p:blipFill>
          <a:blip r:embed="rId1"/>
          <a:stretch/>
        </p:blipFill>
        <p:spPr>
          <a:xfrm>
            <a:off x="750960" y="2057400"/>
            <a:ext cx="3222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Радиолюбительские микроспутники на орбите сегодня :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OSCAR-51”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 –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запущен 29 июня 2004 года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  <a:ea typeface="Arial"/>
                <a:hlinkClick r:id="rId1"/>
              </a:rPr>
              <a:t>http://www.amsat.or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amSat (VUSat)” –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запущен 05 мая 2005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Спутники запущенные ранее 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O-27, FO-29, GO-32, SO-41, MO-46, SO-50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Научный спутник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OST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– см.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w.astro.ubc.ca/MOST/overview.html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Любительское радио на МКС : 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  <a:ea typeface="Arial"/>
                <a:hlinkClick r:id="rId2"/>
              </a:rPr>
              <a:t>http://www.ariss.or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           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Микроспутник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ОСКАР-51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876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nalog Uplink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45.920 MHz FM (PL - 67Hz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268.700 MHz FM (PL - 67Hz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nalog Downlink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435.300 MHz FM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401.200 MHz F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SK-31 Uplin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8.140 MHz US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gital Uplink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45.860 MHz 9600 bps, AX.25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268.700 MHz 9600 bps AX.2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gital Downlink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435.150 MHz 9600 bps, AX.25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401.200 MHz 38,400 bps, AX.2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echo_chuck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828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Основные данные спутника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SETI-Expres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5486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oice Uplink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437.250 FM 67Hz CTCSS, AX.25, design of Holger Eckardt,  DF2FQ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oice Downlink 2401.835 F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cket Up/Downlink  437.250 9k6 pack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cket Downlink 2401.840 38k4 pack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татус : Цифровые моды связи будут использованы для передачи данных от датчиков и двух приборов –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MOS-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амеры и магнитометра. ЕКА намерено объявить конкурс среди радиолюбителей – тот, кто примет наибольший объем телеметрии получит ценный приз. Схема связи будет такая же, как и для спутника ОСКАР-51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sseti1" descr=""/>
          <p:cNvPicPr/>
          <p:nvPr/>
        </p:nvPicPr>
        <p:blipFill>
          <a:blip r:embed="rId1"/>
          <a:stretch/>
        </p:blipFill>
        <p:spPr>
          <a:xfrm>
            <a:off x="5638680" y="152388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Микроспутник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ST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ttp://www.astro.ubc.ca/MOST/overview.html</a:t>
            </a:r>
            <a:br>
              <a:rPr sz="2400"/>
            </a:b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54100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MOST (Microvariability and Oscillations of Stars) is a Canadian micro-satellite project dedicated to seismology of Sun-like and magnetic stars as well as to study microvariability in Wolf-Rayet winds and many other targets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atellite 65 x 65 x 30 cm; mass ~ 60 kg, solar panels and attitude control system with reaction wheels and magneto- torquers within 10 arc/sec accuracy Three S-band stations in Toronto, Vancouver, and Vienna 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uplink 9,600 kBs and data downlinked at 38,400 kBs.Optical Telescope with 15 cm across, CCD camera with 1024 by 1024 pixelsfilter in the range 350 - 700 nm.  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launched by Rockot launcher at June 30, 2003, from Plesetsk on  polar sun-synchronous orbit approx. 820 km, period ~ 100 min, have a Continuous Viewing Zone (CVZ) about -19 to +36 degrees in which a selected target star observable for up to 60 days without interruption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ttp://ams.astro.univie.ac.at/space_most.ph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title" descr=""/>
          <p:cNvPicPr/>
          <p:nvPr/>
        </p:nvPicPr>
        <p:blipFill>
          <a:blip r:embed="rId1"/>
          <a:stretch/>
        </p:blipFill>
        <p:spPr>
          <a:xfrm>
            <a:off x="3478320" y="5743440"/>
            <a:ext cx="5665680" cy="1114560"/>
          </a:xfrm>
          <a:prstGeom prst="rect">
            <a:avLst/>
          </a:prstGeom>
          <a:ln w="0">
            <a:noFill/>
          </a:ln>
        </p:spPr>
      </p:pic>
      <p:pic>
        <p:nvPicPr>
          <p:cNvPr id="113" name="most_beauty" descr=""/>
          <p:cNvPicPr/>
          <p:nvPr/>
        </p:nvPicPr>
        <p:blipFill>
          <a:blip r:embed="rId2"/>
          <a:stretch/>
        </p:blipFill>
        <p:spPr>
          <a:xfrm>
            <a:off x="5334120" y="1523880"/>
            <a:ext cx="3359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5T08:13:18Z</dcterms:created>
  <dc:creator>Администратор</dc:creator>
  <dc:description/>
  <dc:language>en-US</dc:language>
  <cp:lastModifiedBy>Администратор</cp:lastModifiedBy>
  <dcterms:modified xsi:type="dcterms:W3CDTF">2005-10-18T09:03:54Z</dcterms:modified>
  <cp:revision>56</cp:revision>
  <dc:subject/>
  <dc:title>SPACE SCIENCE EDUCATION BASED ON THE USAGE OF MICROSATELLITES  </dc:title>
</cp:coreProperties>
</file>